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F79D-43E1-4877-AF5C-DAB8C1013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1EF2-4DA2-4FCB-84E1-4F1E0307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24E8-C22E-4036-8023-A7638F006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D437-D3FE-4113-A4D8-1AC871D47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423C-09CA-429F-9224-9C5B89B1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4210-AF94-4105-89C4-DFAC4873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5681-9F83-457B-A7F3-21482729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CE70-2CED-4CA0-A4D3-A33EA4D3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AA2F-A38E-4F57-A19F-38A3EF67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329F-7116-44FF-B9D5-FEBFBCD6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905F-23EC-4B4D-9FE4-57E514CA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3E4D-EBD3-43B6-8BFB-559388C7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6EA4-5C50-47C9-A2D3-A7113D9D4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POETRY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OF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ROBERT FRO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95480" y="3429000"/>
            <a:ext cx="3349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876920" y="247320"/>
            <a:ext cx="4267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roads diverged in a yellow wood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orry I could not travel bot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be one traveler, long I stoo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ooked down one as far as I coul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where it bent in the undergrowth;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ook the other, as just as fair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having perhaps the better claim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it was grassy and wanted wear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ugh as for that the passing ther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worn them really about the same,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both that morning equally la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eaves no step had trodden black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, I kept the first for another day!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t knowing how way leads on to way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doubted if I should ever come back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shall be telling this with a sig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where ages and ages hence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roads diverged in a wood, and I--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took the one less traveled by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at has made all the differe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ad Not T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530000"/>
            <a:ext cx="5105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y a crow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ok down on m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ust of snow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a hemlock tree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given my hear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ange of moo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aved some par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 day I had ru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st of Snow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by Robert Lee Fr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95680" y="2286000"/>
            <a:ext cx="42865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4660920" y="167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84320" y="503712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" y="612000"/>
            <a:ext cx="5410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pping By Woods On A Snowy Evening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y Robert Lee Fro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se woods these are I think I know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 house is in the village, though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ill not see me stopping her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watch his woods fill up with snow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little horse must think it's que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top without a farmhouse nea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the woods and frozen lak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rkest evening of the year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gives his harness bells a shak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sk if there is some mistake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nly other sound's the sweep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easy wind and downy flake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oods are lovely, dark, and deep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I have promises to keep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miles to go before I sleep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miles to go before I slee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181480" y="1295280"/>
            <a:ext cx="35355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8:23:47Z</dcterms:created>
  <dc:creator>nbdoe</dc:creator>
  <dc:description/>
  <dc:language>en-US</dc:language>
  <cp:lastModifiedBy>nbdoe</cp:lastModifiedBy>
  <dcterms:modified xsi:type="dcterms:W3CDTF">2007-12-03T02:12:45Z</dcterms:modified>
  <cp:revision>3</cp:revision>
  <dc:subject/>
  <dc:title>Slide 1</dc:title>
</cp:coreProperties>
</file>